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move the slide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F404A-C19A-4711-884F-80E6282D5F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22EC3-A09B-461A-959C-763C3B9D7C60}" type="slidenum">
              <a:rPr b="0" lang="en-US" sz="1200" spc="-1" strike="noStrike">
                <a:solidFill>
                  <a:srgbClr val="1a1a1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093680" y="679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898200" y="4375080"/>
            <a:ext cx="5016600" cy="40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FA07-EB38-4384-BC29-525585EE3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0779-05B5-4DB1-8D1C-C67B733BE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2FA001-BEDA-4DAC-AD94-97F24612F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40065A-9A73-4038-B7BE-5B049E2E6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D2747A-88FE-4927-A54A-2CFA7F4E0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C09A4D-00BC-4019-92A6-825FE380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84780B-6C57-4E2D-B848-C4D0DB1AC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930C6-C1C0-41F8-B399-73E8B80F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B886DC-EBDF-4FA8-98ED-4A0C034B2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8FB307-1BA2-413D-9DB8-055AD0030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6CED80-947F-4E59-B112-08B3F5707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D386B4-99FF-42D5-A88E-67DF3791F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3F3B-D69E-4721-A0B8-205ED3C29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184C48-F4D0-494E-AADE-8FFA52A79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771FF1-1061-4219-9B90-A82F83887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17835D-850B-41B4-903D-79248E0E0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22A1E1-0284-4B24-936D-C0CC35DA1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1777B5-1C8F-4235-948B-22E191636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B8E2D7-DC5C-4093-8D5F-799E840C3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CB1032-334F-490B-B926-129A4FB73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353AA8-A83B-4944-ADCA-523004FE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D67F8F-EE56-4390-AFEF-9AF8CC5CE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25EB23-E518-487D-892E-AC8A8F33C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EA3C-A444-467A-B9E3-CDE79531C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0DDBE9-3B2A-4D72-9C87-C3D87F4D1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D42C88-D6DA-4E20-996D-C0EE39079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291019-88E9-43E1-B7E2-97697700F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FAF921-5777-4ADA-A6C6-40BDC08AA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14AF9E-B58A-4035-9CC4-DD752EA98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3B5510-7655-4C41-A933-F368F1C7F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A2E3F7-D2B8-4C9F-A752-B2BF67D11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5825A6-D74D-4F91-9CC2-5842A285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65A367-B0B1-41D4-9705-915D1D3B0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ACA290-EF64-43DC-B912-93E5496EB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C00591-2AAC-4340-80C9-6B798C34E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88D72B-76B9-4E69-AC85-B17B8A7E6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DC6093-A2E3-4DC6-BC46-C618FEA70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908AEA-73A3-4D9C-8324-E47DD14BD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62E893-FACE-424C-953B-F1BF09693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CACE04-DDB5-425B-B5A0-C3C768CD5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8AFE79-D8DC-4526-8B4E-C71C0B9F4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90C80E-DA61-4328-BD89-60D54C73D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46982F-15FF-41A5-956A-ED159EC88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1CD028-2772-4E0E-8A91-37AC0DA2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778D6C-B973-4CD5-9990-8664E71E8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D808DC-990C-4C5C-9AE3-EE919CFD3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31EED4-D6E4-4960-B3B6-C77DF52B9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1A1B28-FE29-45A6-AC43-7944508FB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BA7592-CEBB-401F-822C-B12D41691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37FE18-ACB5-4494-8466-5F53114B3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658846-27D2-425D-AD15-23CB81956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83E4C7-09B5-42C8-8A9D-B72F046F7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CF0BC0-DD7D-48FA-BF73-E65B89AE9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F3CF55-F993-4D3C-8BF2-47E7B33F6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92C8E3-17F1-4B4C-BFFB-9340C0F54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173063-DE65-4940-8307-5E3839C5E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1D964E-EB7C-4A10-AE0D-DEBCFA536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09DD5C-399B-48BE-AE9F-7F8FE44E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5B7340-358B-4226-8BFB-6954BE871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AD6ED8-0DF0-4F05-B480-4BB938164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626F8E-6452-471A-B2B8-147999D01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09FF0F-3F44-4BDB-BF87-DC84DB95C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8B8F43-38CA-4762-B868-9B60EC065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C98D6B-50D5-48F0-BECB-6C26AA49C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6C49CD-3BBA-4D28-AB23-FA9E78160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C5040A-21CB-442C-BBB1-F8D809196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C0BD48-39E4-45A9-8C50-53350226A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65B12D-EF34-4C3D-B4D6-8A784CFF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D02852-3387-4C23-8A83-2AE7DDC0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E87806-20E6-4627-990A-1B19C7075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05C620-CE6E-444E-9A6C-5B47F114D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AE4B24-3BED-40FC-B3B1-FEE21E3C1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17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EA86F9-FF8A-4387-897E-3300B66A7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4F39B2-28C9-4870-9817-1AE22377B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EE4DB9-F091-4271-8078-39357B0BC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ACE4ED-04AF-42D9-90FA-6A6767768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E9275B-3442-4A00-B3FF-FCB3FDA1F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90FB4A-61E6-4E89-8A6F-2615E9165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A13B73-896A-4BBC-BEDE-E6EF75FA2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77F17B-7D24-4B0B-9FBC-13436CA0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2BDF65-C21A-4F43-A504-972284D84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4DC273-B278-4A14-B3A0-EE988E0B8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156361-A42A-4F09-A98E-7D27DCE86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2EE815-E8D0-4ACC-85FA-D570BE04F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23BB19-BBA8-4C7F-B052-D47B5A231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AF4DB6-3EF0-4F3F-A6B6-10F270E56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487721-E162-435F-ACB2-F06DAE63E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59A24E-9268-410A-9E53-D93979D87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2EB364-5AA4-4C3B-93C4-D5EC8DE6C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E21E33-7CB8-4C6C-88BA-519E57FAF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14DC12-E4FC-40DD-8FEB-1D74BDB95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B0A104-0903-4AF7-B4CB-61A7042A5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B014-2F66-4C2E-9026-8076AD2E7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B97DAE-8343-4E87-BBDF-B8C37130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1F3A7D-DEAF-4F8A-B657-D0824760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37E5CC-B6CA-4BCB-8A69-FF076760D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69DAC1-9E42-43EB-AC37-74C0123D4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00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01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65A0C0-1DBC-44A3-9052-C2198B09D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EBC045-FB8E-4867-AABD-E38548C96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4A7F6B-3BA1-4D2E-9263-76BA71DF4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F18AAD-6FC1-48DB-BE2D-A5D098D58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680478-D40F-40A2-9298-F67D3A72E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3A8ACF-B0AF-4878-81D5-0C053C6BC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256E61-BA25-4E90-8AE8-57F6662CE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8A1901-F76C-428A-8A7C-829A5A1FD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0C2B25-668A-4510-969D-3AC21B459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7016CE-D243-42BD-9424-C500F269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7649A2-5FC7-4E6D-998A-1A4B9BBBB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942653-130E-4CE1-83B8-D5C80838B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42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43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3692D9-CB15-4CF6-B1DA-150C2720E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83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84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B56F-5139-4497-8CF9-308BE64A0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F86F-C147-4580-89AB-207594305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E94C5-66C0-46F5-B924-B5FF89EF7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FE56-4E29-4E9F-92FE-42E40F090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57D88-A6F2-4B42-9DE3-2B02DF306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BE2BE-8955-42C1-A831-88C9CAC23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242BB-37B5-4C27-8B98-B098C4A29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C8868-68D1-45BB-AC7D-949DB1A2E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DEC23-FD6C-4BB2-BC2F-9628BC9BD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5B210-63BC-4213-91FE-9D6F97AB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6E808-4A2E-4EFF-A793-7EF3F5BB9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F2D57-A89D-4CA4-BDE3-15B5BCB37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AC949-FA1F-4283-827F-950F2950E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CAB5D-8F42-4D9F-B49B-5DC0F5172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420F-98FF-446B-ACBB-836621868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54284-6D04-4CA7-95D9-390F1803B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A9416-0022-4D24-94AF-50ED5DE3B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E13C2-CB57-4AE7-9047-5A71B5ECC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FE3B2-C7D7-4CA8-BD21-FB6F93B44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6E29D-3D6C-4D43-BB98-0033670E4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1477B-F7F0-4570-95BD-B1590C0E9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AC589-8582-4BF9-ADC8-F8B53A64B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AA6D5-524F-4E6D-8432-6B4EE83B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AE48E-C628-4700-BC76-0D28B149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97C42-03EA-4E7F-894B-C29EF8F3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5087-D28B-4695-8E51-2D8467BD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0D24B-67C1-4FED-BA70-EFAA4C3A2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7ACC5-B92A-49ED-B16B-D7427BD33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9D724-EB93-461C-A13E-972AEC04C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AF57F-1463-4866-9EDE-55DB3E629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7C1BD-B494-4B1B-9762-94F5FE4A3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4AD43-F43E-4A43-AB65-ABBFEB746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B4331-C0DE-46B7-9E19-46AB87071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148DB-72CF-4EA7-A3C6-C0755F65D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252E5-53FC-4BD5-BE43-1C733200D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AA5E5-737A-447D-A438-AC3342C5C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0997-BBB4-44D5-B00D-5090E090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1A467-D03A-4A00-9581-ACDC4678C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0080D-5122-42E9-B91F-0809E0178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90BC5-B608-4E41-8B16-261A561DF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59925-1E2C-4BAB-94C4-38A8965D2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E6B3F-EEA4-4783-BB43-E53F8F7E3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009AC7-5CAD-4242-A8F5-C3C8C421F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37C172-9CD2-4304-8EB8-9D7E4DB92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5971B0-28D9-480C-A78E-31937313D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2BE5B2-35E9-4A93-B51D-DE92041CE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EB1FD1-2F73-4902-96D7-E833BD190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5ADD-68A9-4628-BAF7-D80D99AF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716FF-E2ED-4D2F-84A9-328D503F5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5B6BEB-A063-4131-82D8-F65ECB472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684F15-E080-48B8-AE1B-BD495A1D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9BA9BE-EF27-4847-8C51-6231C2BF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E2028-5C93-4F1E-B38F-DD10F48B4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93D4C-FBBF-48E5-AD76-2D9ABA3CC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B6BC7-BFD3-41F4-8511-AD6E1554D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875FD8-9444-4355-9613-4A60E22DA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E70749-BC76-42BA-A64E-9166E6B8A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14BA12-F5A0-4AC6-9272-EBAF890FC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hyperlink" Target="http://www.international-pain-school.org/" TargetMode="External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7977C-794A-4680-80AB-7A31DA79122A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ounded Rectangle 5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19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0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1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64E83-B89F-4775-AB81-652A59023478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ounded Rectangle 6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22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23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24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1CA47-CE47-4236-A112-79120C58CD3C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ounded Rectangle 6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ounded Rectangle 2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25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26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27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04403-8231-4602-A5E9-D8CDD9780FD5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ounded Rectangle 3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E1650-B31D-461B-823C-1D375F4EBB58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ounded Rectangle 4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dt" idx="31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 type="ftr" idx="32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 type="sldNum" idx="33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212A9-C758-4083-A98A-CFBCA000617B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ounded Rectangle 4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 type="dt" idx="34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 type="ftr" idx="35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 type="sldNum" idx="36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21865-1FEF-4974-993C-855FAC73BDB6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ounded Rectangle 3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 type="dt" idx="37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 type="ftr" idx="38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 type="sldNum" idx="39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BCEEB-C00B-4FA7-937B-8924410EF380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ounded Rectangle 3"/>
          <p:cNvSpPr/>
          <p:nvPr/>
        </p:nvSpPr>
        <p:spPr>
          <a:xfrm rot="5400000">
            <a:off x="7739280" y="-27720"/>
            <a:ext cx="43524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 type="dt" idx="40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 type="ftr" idx="41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 type="sldNum" idx="42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6E4CE-A959-441C-959E-899E6339BCE8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TextBox 1"/>
          <p:cNvSpPr/>
          <p:nvPr/>
        </p:nvSpPr>
        <p:spPr>
          <a:xfrm>
            <a:off x="607680" y="3475440"/>
            <a:ext cx="690156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600" spc="-1" strike="noStrike">
                <a:solidFill>
                  <a:srgbClr val="858585"/>
                </a:solidFill>
                <a:latin typeface="Open Sans Light"/>
              </a:rPr>
              <a:t>International</a:t>
            </a:r>
            <a:r>
              <a:rPr b="0" lang="de-DE" sz="4600" spc="-1" strike="noStrike">
                <a:solidFill>
                  <a:srgbClr val="858585"/>
                </a:solidFill>
                <a:latin typeface="Open Sans"/>
              </a:rPr>
              <a:t> </a:t>
            </a:r>
            <a:r>
              <a:rPr b="0" lang="de-DE" sz="4600" spc="-1" strike="noStrike">
                <a:solidFill>
                  <a:srgbClr val="858585"/>
                </a:solidFill>
                <a:latin typeface="Open Sans Bold"/>
              </a:rPr>
              <a:t>Pain School</a:t>
            </a:r>
            <a:endParaRPr b="0" lang="en-US" sz="46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745" name="Rounded Rectangle 2"/>
          <p:cNvSpPr/>
          <p:nvPr/>
        </p:nvSpPr>
        <p:spPr>
          <a:xfrm>
            <a:off x="-66600" y="3686040"/>
            <a:ext cx="649080" cy="338400"/>
          </a:xfrm>
          <a:prstGeom prst="roundRect">
            <a:avLst>
              <a:gd name="adj" fmla="val 5398"/>
            </a:avLst>
          </a:prstGeom>
          <a:solidFill>
            <a:srgbClr val="8585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746" name="TextBox 3"/>
          <p:cNvSpPr/>
          <p:nvPr/>
        </p:nvSpPr>
        <p:spPr>
          <a:xfrm>
            <a:off x="777960" y="4487760"/>
            <a:ext cx="758664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Open Sans"/>
              </a:rPr>
              <a:t>More lectures and further information can be found on our project website.</a:t>
            </a:r>
            <a:endParaRPr b="0" lang="en-US" sz="1400" spc="-1" strike="noStrike">
              <a:solidFill>
                <a:srgbClr val="1a1a1a"/>
              </a:solidFill>
              <a:latin typeface="Calibri"/>
            </a:endParaRPr>
          </a:p>
          <a:p>
            <a:pPr>
              <a:lnSpc>
                <a:spcPts val="18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1400" spc="-1" strike="noStrike" u="sng">
                <a:solidFill>
                  <a:srgbClr val="008bcb"/>
                </a:solidFill>
                <a:uFillTx/>
                <a:latin typeface="Open Sans"/>
                <a:hlinkClick r:id="rId2"/>
              </a:rPr>
              <a:t>www.international-pain-school.org</a:t>
            </a:r>
            <a:endParaRPr b="0" lang="en-US" sz="1400" spc="-1" strike="noStrike">
              <a:solidFill>
                <a:srgbClr val="1a1a1a"/>
              </a:solidFill>
              <a:latin typeface="Calibri"/>
            </a:endParaRPr>
          </a:p>
          <a:p>
            <a:pPr>
              <a:lnSpc>
                <a:spcPts val="18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1400" spc="-1" strike="noStrike">
              <a:solidFill>
                <a:srgbClr val="1a1a1a"/>
              </a:solidFill>
              <a:latin typeface="Calibri"/>
            </a:endParaRPr>
          </a:p>
          <a:p>
            <a:pPr>
              <a:lnSpc>
                <a:spcPts val="18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1400" spc="-1" strike="noStrike">
              <a:solidFill>
                <a:srgbClr val="1a1a1a"/>
              </a:solidFill>
              <a:latin typeface="Calibri"/>
            </a:endParaRPr>
          </a:p>
          <a:p>
            <a:pPr>
              <a:lnSpc>
                <a:spcPts val="18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1400" spc="-1" strike="noStrike">
              <a:solidFill>
                <a:srgbClr val="1a1a1a"/>
              </a:solidFill>
              <a:latin typeface="Calibri"/>
            </a:endParaRPr>
          </a:p>
          <a:p>
            <a:pPr>
              <a:lnSpc>
                <a:spcPts val="18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1400" spc="-1" strike="noStrike">
              <a:solidFill>
                <a:srgbClr val="1a1a1a"/>
              </a:solidFill>
              <a:latin typeface="Calibri"/>
            </a:endParaRPr>
          </a:p>
          <a:p>
            <a:pPr>
              <a:lnSpc>
                <a:spcPts val="18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Open Sans"/>
              </a:rPr>
              <a:t>© 2013 international-pain-school.org</a:t>
            </a:r>
            <a:endParaRPr b="0" lang="en-US" sz="1400" spc="-1" strike="noStrike">
              <a:solidFill>
                <a:srgbClr val="1a1a1a"/>
              </a:solidFill>
              <a:latin typeface="Calibri"/>
            </a:endParaRPr>
          </a:p>
          <a:p>
            <a:pPr>
              <a:lnSpc>
                <a:spcPts val="18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14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607680" y="3475440"/>
            <a:ext cx="690156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600" spc="-1" strike="noStrike">
                <a:solidFill>
                  <a:srgbClr val="1a1a1a"/>
                </a:solidFill>
                <a:latin typeface="Open Sans Light"/>
              </a:rPr>
              <a:t>International</a:t>
            </a:r>
            <a:r>
              <a:rPr b="0" lang="de-DE" sz="4600" spc="-1" strike="noStrike">
                <a:solidFill>
                  <a:srgbClr val="1a1a1a"/>
                </a:solidFill>
                <a:latin typeface="Open Sans"/>
              </a:rPr>
              <a:t> </a:t>
            </a:r>
            <a:r>
              <a:rPr b="0" lang="de-DE" sz="4600" spc="-1" strike="noStrike">
                <a:solidFill>
                  <a:srgbClr val="333333"/>
                </a:solidFill>
                <a:latin typeface="Open Sans Bold"/>
              </a:rPr>
              <a:t>Pain School</a:t>
            </a:r>
            <a:endParaRPr b="0" lang="en-US" sz="46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42" name="Rounded Rectangle 4"/>
          <p:cNvSpPr/>
          <p:nvPr/>
        </p:nvSpPr>
        <p:spPr>
          <a:xfrm>
            <a:off x="-66600" y="3686040"/>
            <a:ext cx="649080" cy="33840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ounded Rectangle 4"/>
          <p:cNvSpPr/>
          <p:nvPr/>
        </p:nvSpPr>
        <p:spPr>
          <a:xfrm>
            <a:off x="-66600" y="3686040"/>
            <a:ext cx="649080" cy="33840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ounded Rectangle 3"/>
          <p:cNvSpPr/>
          <p:nvPr/>
        </p:nvSpPr>
        <p:spPr>
          <a:xfrm>
            <a:off x="-66600" y="3686040"/>
            <a:ext cx="649080" cy="33840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ounded Rectangle 3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4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5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6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E4B9C-39B2-4977-8090-C220BED62F43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ounded Rectangle 4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7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8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9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036A8-970F-4654-966B-F07BCBFCC218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ounded Rectangle 3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0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1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2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3A2F2-98E6-4E0F-9704-BA429E59D92C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ounded Rectangle 4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3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14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15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50186-2197-49FF-801D-EB6E9BD6C8C9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ounded Rectangle 6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16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17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18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60029-EC0E-48FF-BE38-34BF66D9466F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Integration of Palliative Care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Palliative care can be a part of symptom management from the time of diagnosis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When there are no curative options, focus medications and treatments on comfort only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Dosing of pain medication, such as opioids, has no upper limit-especially at then end of life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Treat all aspects of the patient as their greatest suffering may not be from physical pai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Remember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Palliative Care and symptom management only requires attention to what the patient needs, regular re-assessment, and access to medication. 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High-quality palliative care does not require any high-tech materials or equipment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Everyone can provide palliative care to those in need, especially at the end of life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/>
          <p:nvPr/>
        </p:nvSpPr>
        <p:spPr>
          <a:xfrm>
            <a:off x="685800" y="457200"/>
            <a:ext cx="7586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Open Sans Semibold"/>
              </a:rPr>
              <a:t>This talk was originally prepared by:</a:t>
            </a:r>
            <a:endParaRPr b="0" lang="en-US" sz="3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27" name=""/>
          <p:cNvSpPr/>
          <p:nvPr/>
        </p:nvSpPr>
        <p:spPr>
          <a:xfrm>
            <a:off x="468360" y="1676520"/>
            <a:ext cx="84247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4000"/>
          </a:bodyPr>
          <a:p>
            <a:pPr marL="150480" indent="7878600">
              <a:lnSpc>
                <a:spcPct val="1000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3600" spc="-1" strike="noStrike">
                <a:solidFill>
                  <a:srgbClr val="1a1a1a"/>
                </a:solidFill>
                <a:latin typeface="Open Sans"/>
                <a:ea typeface="Times New Roman"/>
              </a:rPr>
              <a:t>  </a:t>
            </a:r>
            <a:r>
              <a:rPr b="0" lang="en-US" sz="3600" spc="-1" strike="noStrike">
                <a:solidFill>
                  <a:srgbClr val="1a1a1a"/>
                </a:solidFill>
                <a:latin typeface="Open Sans"/>
                <a:ea typeface="Times New Roman"/>
              </a:rPr>
              <a:t>Jamie Laubisch MD &amp; Justin Baker MD</a:t>
            </a:r>
            <a:endParaRPr b="0" lang="en-US" sz="3600" spc="-1" strike="noStrike">
              <a:solidFill>
                <a:srgbClr val="1a1a1a"/>
              </a:solidFill>
              <a:latin typeface="Calibri"/>
            </a:endParaRPr>
          </a:p>
          <a:p>
            <a:pPr marL="150480" indent="7878600">
              <a:lnSpc>
                <a:spcPct val="1000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i="1" lang="en-US" sz="2400" spc="-1" strike="noStrike">
                <a:solidFill>
                  <a:srgbClr val="1a1a1a"/>
                </a:solidFill>
                <a:latin typeface="Open Sans"/>
                <a:ea typeface="Times New Roman"/>
              </a:rPr>
              <a:t>   </a:t>
            </a:r>
            <a:endParaRPr b="0" lang="en-US" sz="2400" spc="-1" strike="noStrike">
              <a:solidFill>
                <a:srgbClr val="1a1a1a"/>
              </a:solidFill>
              <a:latin typeface="Calibri"/>
            </a:endParaRPr>
          </a:p>
          <a:p>
            <a:pPr marL="150480" indent="7878600">
              <a:lnSpc>
                <a:spcPct val="1000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i="1" lang="en-US" sz="2400" spc="-1" strike="noStrike">
                <a:solidFill>
                  <a:srgbClr val="1a1a1a"/>
                </a:solidFill>
                <a:latin typeface="Open Sans"/>
                <a:ea typeface="Times New Roman"/>
              </a:rPr>
              <a:t>   </a:t>
            </a:r>
            <a:r>
              <a:rPr b="0" i="1" lang="en-US" sz="2400" spc="-1" strike="noStrike">
                <a:solidFill>
                  <a:srgbClr val="1a1a1a"/>
                </a:solidFill>
                <a:latin typeface="Open Sans"/>
                <a:ea typeface="Times New Roman"/>
              </a:rPr>
              <a:t>Memphis, USA</a:t>
            </a:r>
            <a:endParaRPr b="0" lang="en-US" sz="2400" spc="-1" strike="noStrike">
              <a:solidFill>
                <a:srgbClr val="1a1a1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Text Box 8"/>
          <p:cNvSpPr/>
          <p:nvPr/>
        </p:nvSpPr>
        <p:spPr>
          <a:xfrm>
            <a:off x="611280" y="907920"/>
            <a:ext cx="80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Calibri"/>
              </a:rPr>
              <a:t>Talks in the International Pain School include the following: </a:t>
            </a: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29" name="Rectangle 10"/>
          <p:cNvSpPr/>
          <p:nvPr/>
        </p:nvSpPr>
        <p:spPr>
          <a:xfrm>
            <a:off x="609480" y="38088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International Pain School</a:t>
            </a:r>
            <a:endParaRPr b="0" lang="en-US" sz="3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30" name="Text Box 8"/>
          <p:cNvSpPr/>
          <p:nvPr/>
        </p:nvSpPr>
        <p:spPr>
          <a:xfrm>
            <a:off x="611280" y="907920"/>
            <a:ext cx="80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Calibri"/>
              </a:rPr>
              <a:t>Talks in the International Pain School include the following: </a:t>
            </a: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31" name="Rectangle 10"/>
          <p:cNvSpPr/>
          <p:nvPr/>
        </p:nvSpPr>
        <p:spPr>
          <a:xfrm>
            <a:off x="609480" y="38088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International Pain School</a:t>
            </a:r>
            <a:endParaRPr b="0" lang="en-US" sz="3200" spc="-1" strike="noStrike">
              <a:solidFill>
                <a:srgbClr val="1a1a1a"/>
              </a:solidFill>
              <a:latin typeface="Calibri"/>
            </a:endParaRPr>
          </a:p>
        </p:txBody>
      </p:sp>
      <p:graphicFrame>
        <p:nvGraphicFramePr>
          <p:cNvPr id="832" name=""/>
          <p:cNvGraphicFramePr/>
          <p:nvPr/>
        </p:nvGraphicFramePr>
        <p:xfrm>
          <a:off x="684360" y="1266840"/>
          <a:ext cx="7696080" cy="4983120"/>
        </p:xfrm>
        <a:graphic>
          <a:graphicData uri="http://schemas.openxmlformats.org/drawingml/2006/table">
            <a:tbl>
              <a:tblPr/>
              <a:tblGrid>
                <a:gridCol w="4260600"/>
                <a:gridCol w="3435480"/>
              </a:tblGrid>
              <a:tr h="38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ysiology and pathophysiology of pain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Nilesh Patel, PhD, Kenya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sessment of pain &amp;  taking a pain history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Yohannes Woubished, M.D, Addis Ababa, Ethiopia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inical pharmacology of analgesic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d non-pharmacological treatment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Ramani Vijayan, M.D. Kuala Lumpur, Malaysia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stoperative – low technology treatment method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Dominique Fletcher, M.D, Garches &amp; Xavier Lassalle, RN, MSF, Paris, France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stoperative– high treatment technology method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Narinder Rawal, M.D. PhD, FRCA(Hon), Orebro, Sweden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Cancer pain– low technology treatment method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Barbara Kleinmann, MD, Freiburg, Germany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ncer pain– high technology treatment method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Jamie Laubisch MD, Justin Baker MD, Doralina Anghelescu MD, Memphis, USA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lliative Care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Jamie Laubisch MD, Justin Baker MD, Memphis, USA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uropathic pain - low technology treatment method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Maija Haanpää, MD, Helsinki &amp; Aki Hietaharju, Tampere, Finland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uropathic pain – high technology treatment method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Maija Haanpää, M.D., Helsinki &amp; Aki Hietaharju, M.D.,  Tampere, Finland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sychological aspects of managing pain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Etleva Gjoni, Germany 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ecial Management Challenge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Debra Gordon, RN, DNP, FAAN, Seattle, USA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2"/>
          <p:cNvSpPr/>
          <p:nvPr/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Open Sans Semibold"/>
              </a:rPr>
              <a:t>International Pain School</a:t>
            </a:r>
            <a:endParaRPr b="0" lang="en-US" sz="3200" spc="-1" strike="noStrike">
              <a:solidFill>
                <a:srgbClr val="1a1a1a"/>
              </a:solidFill>
              <a:latin typeface="Calibri"/>
            </a:endParaRPr>
          </a:p>
        </p:txBody>
      </p:sp>
      <p:pic>
        <p:nvPicPr>
          <p:cNvPr id="834" name="Picture 6" descr=""/>
          <p:cNvPicPr/>
          <p:nvPr/>
        </p:nvPicPr>
        <p:blipFill>
          <a:blip r:embed="rId1"/>
          <a:stretch/>
        </p:blipFill>
        <p:spPr>
          <a:xfrm>
            <a:off x="762120" y="3048120"/>
            <a:ext cx="7954920" cy="3325680"/>
          </a:xfrm>
          <a:prstGeom prst="rect">
            <a:avLst/>
          </a:prstGeom>
          <a:ln w="0">
            <a:noFill/>
          </a:ln>
        </p:spPr>
      </p:pic>
      <p:sp>
        <p:nvSpPr>
          <p:cNvPr id="835" name="Rectangle 4"/>
          <p:cNvSpPr/>
          <p:nvPr/>
        </p:nvSpPr>
        <p:spPr>
          <a:xfrm>
            <a:off x="919440" y="1981080"/>
            <a:ext cx="503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  <a:ea typeface="Arial"/>
              </a:rPr>
              <a:t>The project is supported by these organizations:</a:t>
            </a: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2916000" y="4941360"/>
            <a:ext cx="5337000" cy="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i="1" lang="en-US" sz="2400" spc="-1" strike="noStrike">
                <a:solidFill>
                  <a:srgbClr val="3399ff"/>
                </a:solidFill>
                <a:latin typeface="Open Sans"/>
              </a:rPr>
              <a:t>Type in the name of your institution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algn="r">
              <a:lnSpc>
                <a:spcPts val="36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1476000" y="4149720"/>
            <a:ext cx="6800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ts val="3600"/>
              </a:lnSpc>
              <a:buNone/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i="1" lang="en-US" sz="2800" spc="-1" strike="noStrike">
                <a:solidFill>
                  <a:srgbClr val="3399ff"/>
                </a:solidFill>
                <a:latin typeface="Open Sans"/>
              </a:rPr>
              <a:t>Type in your name</a:t>
            </a:r>
            <a:endParaRPr b="0" lang="en-US" sz="2800" spc="-1" strike="noStrike">
              <a:solidFill>
                <a:srgbClr val="1a1a1a"/>
              </a:solidFill>
              <a:latin typeface="Open Sans"/>
            </a:endParaRPr>
          </a:p>
          <a:p>
            <a:pPr indent="0" algn="r">
              <a:lnSpc>
                <a:spcPts val="3600"/>
              </a:lnSpc>
              <a:buNone/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8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1476000" y="3284280"/>
            <a:ext cx="680076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 algn="r">
              <a:lnSpc>
                <a:spcPts val="3600"/>
              </a:lnSpc>
              <a:buNone/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4600" spc="-1" strike="noStrike">
                <a:solidFill>
                  <a:srgbClr val="1a1a1a"/>
                </a:solidFill>
                <a:latin typeface="Open Sans"/>
              </a:rPr>
              <a:t>Palliative Care</a:t>
            </a:r>
            <a:endParaRPr b="0" lang="en-US" sz="46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pic>
        <p:nvPicPr>
          <p:cNvPr id="797" name="Picture 6" descr="http://1.bp.blogspot.com/_f2I8sVbYok0/TCAm4wO8HrI/AAAAAAAACCQ/w-9D41FN3OQ/s1600/holding+hands.jpg"/>
          <p:cNvPicPr/>
          <p:nvPr/>
        </p:nvPicPr>
        <p:blipFill>
          <a:blip r:embed="rId1"/>
          <a:srcRect l="5915" t="5843" r="6089" b="6326"/>
          <a:stretch/>
        </p:blipFill>
        <p:spPr>
          <a:xfrm>
            <a:off x="-66600" y="0"/>
            <a:ext cx="9210600" cy="6875640"/>
          </a:xfrm>
          <a:prstGeom prst="rect">
            <a:avLst/>
          </a:prstGeom>
          <a:ln w="0">
            <a:noFill/>
          </a:ln>
        </p:spPr>
      </p:pic>
      <p:sp>
        <p:nvSpPr>
          <p:cNvPr id="798" name="Rounded Rectangle 4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What is Palliative Care?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777960" y="2301840"/>
            <a:ext cx="75866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Active total care of the patient…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Begins at diagnosis, and continues regardless of whether or not a patient receives treatment directed </a:t>
            </a:r>
            <a:br>
              <a:rPr sz="2200"/>
            </a:b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at the disease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Health providers must evaluate and alleviate a child's physical, psychological, and social distress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Requires a broad interdisciplinary approach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777960" y="1368000"/>
            <a:ext cx="758664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Open Sans Semibold"/>
              </a:rPr>
              <a:t>WHO definition of palliative care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What is Palliative Care?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36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ja-JP" sz="2200" spc="-1" strike="noStrike">
                <a:solidFill>
                  <a:srgbClr val="1a1a1a"/>
                </a:solidFill>
                <a:latin typeface="Open Sans"/>
              </a:rPr>
              <a:t>“</a:t>
            </a: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The art and science of patient and family-centered care aimed at attending to suffering, promoting healing and improving quality of life</a:t>
            </a:r>
            <a:r>
              <a:rPr b="0" lang="ja-JP" sz="2200" spc="-1" strike="noStrike">
                <a:solidFill>
                  <a:srgbClr val="1a1a1a"/>
                </a:solidFill>
                <a:latin typeface="Open Sans"/>
              </a:rPr>
              <a:t>”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>
              <a:lnSpc>
                <a:spcPts val="36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>
              <a:lnSpc>
                <a:spcPts val="36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The goal is to add life to the patient</a:t>
            </a:r>
            <a:r>
              <a:rPr b="0" lang="ja-JP" sz="2200" spc="-1" strike="noStrike">
                <a:solidFill>
                  <a:srgbClr val="1a1a1a"/>
                </a:solidFill>
                <a:latin typeface="Open Sans"/>
              </a:rPr>
              <a:t>’</a:t>
            </a: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s years, not simply years to the their life …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>
              <a:lnSpc>
                <a:spcPts val="36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Why is it so important?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762120" y="114300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281520" indent="-28152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We cannot cure or save everyone and we will </a:t>
            </a:r>
            <a:br>
              <a:rPr sz="2200"/>
            </a:b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all die someday.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1520" indent="-28152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When resources are limited or unavailable, </a:t>
            </a:r>
            <a:br>
              <a:rPr sz="2200"/>
            </a:b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every patient should have the benefit of symptom management, especially at the end of life.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1520" indent="-28152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Opioids should be available for all patients to </a:t>
            </a:r>
            <a:br>
              <a:rPr sz="2200"/>
            </a:b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help alleviate pain and suffering, although not </a:t>
            </a:r>
            <a:br>
              <a:rPr sz="2200"/>
            </a:b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currently the case.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1520" indent="-28152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Palliative care and symptom management does not require high-tech medicine, but may be achieved anywhere with education and dedication.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Aspects of Palliative Care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Provide comfort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Foster interpersonal relationships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Emotional support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Social support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Spiritual support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Bereavement care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Totality of Personhood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777960" y="5867280"/>
            <a:ext cx="7586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algn="ctr">
              <a:lnSpc>
                <a:spcPts val="36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1800" spc="-1" strike="noStrike">
                <a:solidFill>
                  <a:srgbClr val="1a1a1a"/>
                </a:solidFill>
                <a:latin typeface="Open Sans"/>
              </a:rPr>
              <a:t>Goal: to attend to suffering, of any kind, and improve quality of life</a:t>
            </a:r>
            <a:endParaRPr b="0" lang="en-US" sz="18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810" name="Oval 4"/>
          <p:cNvSpPr/>
          <p:nvPr/>
        </p:nvSpPr>
        <p:spPr>
          <a:xfrm>
            <a:off x="3352680" y="3352680"/>
            <a:ext cx="2210040" cy="2210040"/>
          </a:xfrm>
          <a:prstGeom prst="ellipse">
            <a:avLst/>
          </a:prstGeom>
          <a:solidFill>
            <a:srgbClr val="df006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1" name="Oval 3"/>
          <p:cNvSpPr/>
          <p:nvPr/>
        </p:nvSpPr>
        <p:spPr>
          <a:xfrm>
            <a:off x="2514600" y="1905120"/>
            <a:ext cx="2209680" cy="2209680"/>
          </a:xfrm>
          <a:prstGeom prst="ellipse">
            <a:avLst/>
          </a:prstGeom>
          <a:solidFill>
            <a:srgbClr val="604a7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2" name="Oval 5"/>
          <p:cNvSpPr/>
          <p:nvPr/>
        </p:nvSpPr>
        <p:spPr>
          <a:xfrm>
            <a:off x="4191120" y="1905120"/>
            <a:ext cx="2209680" cy="2209680"/>
          </a:xfrm>
          <a:prstGeom prst="ellipse">
            <a:avLst/>
          </a:prstGeom>
          <a:solidFill>
            <a:srgbClr val="008bc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3" name="Text Box 6"/>
          <p:cNvSpPr/>
          <p:nvPr/>
        </p:nvSpPr>
        <p:spPr>
          <a:xfrm>
            <a:off x="990720" y="1721160"/>
            <a:ext cx="152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Religion</a:t>
            </a:r>
            <a:endParaRPr b="0" lang="en-US" sz="2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4" name="Text Box 7"/>
          <p:cNvSpPr/>
          <p:nvPr/>
        </p:nvSpPr>
        <p:spPr>
          <a:xfrm>
            <a:off x="990720" y="5150160"/>
            <a:ext cx="1447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Society</a:t>
            </a:r>
            <a:endParaRPr b="0" lang="en-US" sz="2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5" name="Text Box 8"/>
          <p:cNvSpPr/>
          <p:nvPr/>
        </p:nvSpPr>
        <p:spPr>
          <a:xfrm>
            <a:off x="6553080" y="1723680"/>
            <a:ext cx="1676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Culture</a:t>
            </a:r>
            <a:endParaRPr b="0" lang="en-US" sz="2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6" name="Text Box 9"/>
          <p:cNvSpPr/>
          <p:nvPr/>
        </p:nvSpPr>
        <p:spPr>
          <a:xfrm>
            <a:off x="6248520" y="5150160"/>
            <a:ext cx="1981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Education</a:t>
            </a:r>
            <a:endParaRPr b="0" lang="en-US" sz="2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7" name="Text Box 10"/>
          <p:cNvSpPr/>
          <p:nvPr/>
        </p:nvSpPr>
        <p:spPr>
          <a:xfrm>
            <a:off x="3048120" y="2795400"/>
            <a:ext cx="1143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Body</a:t>
            </a:r>
            <a:endParaRPr b="0" lang="en-US" sz="2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8" name="Text Box 11"/>
          <p:cNvSpPr/>
          <p:nvPr/>
        </p:nvSpPr>
        <p:spPr>
          <a:xfrm>
            <a:off x="4686480" y="2795400"/>
            <a:ext cx="1218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Mind</a:t>
            </a:r>
            <a:endParaRPr b="0" lang="en-US" sz="2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9" name="Text Box 12"/>
          <p:cNvSpPr/>
          <p:nvPr/>
        </p:nvSpPr>
        <p:spPr>
          <a:xfrm>
            <a:off x="3924360" y="4242960"/>
            <a:ext cx="1066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Spirit</a:t>
            </a:r>
            <a:endParaRPr b="0" lang="en-US" sz="2200" spc="-1" strike="noStrike">
              <a:solidFill>
                <a:srgbClr val="1a1a1a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Barriers to High Quality Palliative Care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Personal 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-9684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Emotionally difficult, taboos, resisting change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System 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-9684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Access to services, reimbursement, fragmentation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Quality 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-9684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Deficient education, lack of outcomes research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Technical 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-9684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Lack of appropriate evaluation tools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1T21:01:03Z</dcterms:created>
  <dc:creator>SJCRH</dc:creator>
  <dc:description/>
  <dc:language>en-US</dc:language>
  <cp:lastModifiedBy>ruth</cp:lastModifiedBy>
  <dcterms:modified xsi:type="dcterms:W3CDTF">2015-06-15T09:50:54Z</dcterms:modified>
  <cp:revision>37</cp:revision>
  <dc:subject/>
  <dc:title>Palliative Care</dc:title>
</cp:coreProperties>
</file>